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B38-900B-49FD-A609-84D2C45A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BA8-25CE-410B-8C24-61A02B69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EA9-8CEC-4508-87A7-168BDEC4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C82-7F4D-415F-82F0-F655D0EE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21F-8208-4942-9CA6-BE340043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D3F-C167-4950-BC97-496A3B1E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65D-BC9D-4C73-80FA-9CD52361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2E8-E7BE-40F8-A9FF-16E934BE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179-B2A2-4A6C-A3C0-89887CDE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E9F-16DD-4A4D-B034-A0C2261E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9E0-3130-445C-B88B-3FC0BF7D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F80-B059-48B6-B836-DA7B46B9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6A2F-D56F-41BB-834A-83460F0BD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748836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following teams, you are to find the vocab on the sheets in…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 AS A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ck and the Beanstal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ttle Red Riding Hood (easi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ow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cc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lli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ti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ry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rris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33360"/>
            <a:ext cx="3743280" cy="627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ir and -er verb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1700280"/>
            <a:ext cx="770436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Find the infinitiv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e.g. vivir (to live) / comer (to ea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Remove the –er / 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( = viv / = com 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Add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í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( = viví = I spok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(com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í = I at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25360"/>
            <a:ext cx="2158920" cy="441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a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ast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a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1125360"/>
            <a:ext cx="2158920" cy="4412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i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1125360"/>
            <a:ext cx="2158920" cy="4412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ist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ie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58920" y="69228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Comic Sans MS"/>
              </a:rPr>
              <a:t>Important irregul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852640"/>
            <a:ext cx="8280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ui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w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.g. fui a Esp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ña = I went to Sp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ue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.g. fue divertido = It was f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58920" y="69228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Comic Sans MS"/>
              </a:rPr>
              <a:t>Important irregul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852640"/>
            <a:ext cx="828036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ugu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play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jugu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é al fútbol = I played foo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actiqu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practised / d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practiqu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é la gimnasia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I did g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42920" y="981000"/>
            <a:ext cx="7128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put all of the following into the I for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42920" y="981000"/>
            <a:ext cx="712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bailar = to da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bailé (I dance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42920" y="981000"/>
            <a:ext cx="712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ecidir = to deci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decidí (I decide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42920" y="981000"/>
            <a:ext cx="712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leer = to rea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í (I rea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981000"/>
            <a:ext cx="712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reir = to laug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í (I laughe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42920" y="981000"/>
            <a:ext cx="712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beber = to drin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beb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í (I drank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836640"/>
            <a:ext cx="74167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abía una vez un rey y una r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a reina mur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 volvió a ca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a nueva reina era muy herm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a reina se enfadó muchí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 acercó a la cab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lamó a la pu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staba muy can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 espejo respond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tonces llegó un prínc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. El chico se llamaba 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. Vivían en una casita en el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42920" y="981000"/>
            <a:ext cx="712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viajar = to tra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viaj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é (I travelle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981000"/>
            <a:ext cx="7632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Me quejar = to complai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Me quej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é (I complaine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549360"/>
            <a:ext cx="889308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Comic Sans MS"/>
              </a:rPr>
              <a:t>Debe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You are to create your own worksheet, on how to teach the preterite to Yea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use your ow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think how you would like to simplify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how is it form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what are the irregul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MINIMUM of 10 practic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836640"/>
            <a:ext cx="74167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 fue a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ando lle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 al pueb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los hay mejores en todo 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v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 a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yó unos gritos terr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a viejecita tocó la planta con su varita má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 lobo salió a su encu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a correr hacia la casa de la ab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stoy enferma y no puedo moverme de la c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0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erucita, la abuela y el cazador se pusieron muy cont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1197000"/>
            <a:ext cx="792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Highlight the verbs that end 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Highlight verbs that end – aba / -aban /  -ía / ían / 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ense is category 1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ense is category 2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263700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retér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478400" cy="3673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260280"/>
            <a:ext cx="75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Infini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9280" y="49370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to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infinitive and beyo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549360"/>
            <a:ext cx="756108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3 types of infinitive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se all go at the end of the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557360"/>
            <a:ext cx="8532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“preterite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 form of the past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 English = “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333360"/>
            <a:ext cx="2447640" cy="627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- ar verb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133720"/>
            <a:ext cx="720072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Find the infinitiv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e.g. hablar (to talk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Remove the –ar ( = habl 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Add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é ( = hablé = I talk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Comic Sans MS"/>
              </a:rPr>
              <a:t>e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0:22:20Z</dcterms:created>
  <dc:creator>Owner1</dc:creator>
  <dc:description/>
  <dc:language>en-US</dc:language>
  <cp:lastModifiedBy>Owner1</cp:lastModifiedBy>
  <dcterms:modified xsi:type="dcterms:W3CDTF">2008-11-13T11:21:58Z</dcterms:modified>
  <cp:revision>2</cp:revision>
  <dc:subject/>
  <dc:title>Slide 1</dc:title>
</cp:coreProperties>
</file>